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4C189-EF07-48AC-AA6D-A9764F5348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BFA82-A271-425F-A510-9AD30CAC02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C24D2-761E-4988-B1F1-CD5CA642D8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0E6A7-D1BE-40AC-9A22-608C273F3C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7BC24-5057-417E-941B-8EEE32B408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89785-AFC1-489C-8D65-77C2E7A3FC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0A020-3777-4C51-8059-CBDE0FBD23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88021-3F6D-4B68-B369-902FDF22F6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2A714-FE14-4FC0-B5CA-37C6380913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606BC-BC4F-4B1D-BE15-0B5EC5E818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A5E8-C7DD-4B54-BA79-0DDCC04AA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837D-1E2B-4C9C-9F91-AE1AA78CD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62DB-00F6-43B2-BD38-55A180C75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C4F9-1BB4-4A76-B97C-8BFFECEF7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F161-913F-457A-8B37-A84F515F3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A544-EB58-4A69-A7D7-B1F2B624B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CB15-27D3-4C4F-AF64-35234065E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230F-FFAB-4C3A-B89A-F0BB9EF0A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DF69-BB01-4F0D-BA76-65637E56A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293F-C6A4-43B0-937A-3EDBB47BD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B0D3-D184-4ECB-9213-ED6BC9A40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53AE-6F28-4EEA-BC6D-31FF80BF7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D4B2A-505F-459E-B87C-E311C844B0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2160" y="26668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Monitoring Equipment Used in the Microbiology Labora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F9001-CCA7-4117-BDF3-524490FAC86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14D18-8202-4B90-A7F0-EF7ED6B9EF4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quipment - Microbi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itor temperatures o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ub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rig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ezer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 function checks f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t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cla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 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ights and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ain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Incubator"/>
          <p:cNvPicPr/>
          <p:nvPr/>
        </p:nvPicPr>
        <p:blipFill>
          <a:blip r:embed="rId1"/>
          <a:stretch/>
        </p:blipFill>
        <p:spPr>
          <a:xfrm>
            <a:off x="6781680" y="1219320"/>
            <a:ext cx="2114640" cy="2819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Pipettes"/>
          <p:cNvPicPr/>
          <p:nvPr/>
        </p:nvPicPr>
        <p:blipFill>
          <a:blip r:embed="rId2"/>
          <a:stretch/>
        </p:blipFill>
        <p:spPr>
          <a:xfrm>
            <a:off x="6477120" y="4267080"/>
            <a:ext cx="2361960" cy="22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D8A72-F0EC-4B53-ACB5-469472856D4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Object 2"/>
          <p:cNvGraphicFramePr/>
          <p:nvPr/>
        </p:nvGraphicFramePr>
        <p:xfrm>
          <a:off x="1220760" y="1600200"/>
          <a:ext cx="670248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600200"/>
                    <a:ext cx="670248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F41A2-AC86-4E55-B29F-7F852A76584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2"/>
          <p:cNvSpPr/>
          <p:nvPr/>
        </p:nvSpPr>
        <p:spPr>
          <a:xfrm>
            <a:off x="6783840" y="1295280"/>
            <a:ext cx="1458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ter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6707520" y="4800600"/>
            <a:ext cx="178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af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isposab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wa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5"/>
          <p:cNvSpPr/>
          <p:nvPr/>
        </p:nvSpPr>
        <p:spPr>
          <a:xfrm>
            <a:off x="838080" y="1295280"/>
            <a:ext cx="1543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Prepa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6"/>
          <p:cNvSpPr/>
          <p:nvPr/>
        </p:nvSpPr>
        <p:spPr>
          <a:xfrm>
            <a:off x="457200" y="495288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ontaminated wa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8" descr="Autoclave1"/>
          <p:cNvPicPr/>
          <p:nvPr/>
        </p:nvPicPr>
        <p:blipFill>
          <a:blip r:embed="rId1"/>
          <a:stretch/>
        </p:blipFill>
        <p:spPr>
          <a:xfrm>
            <a:off x="3124080" y="2362320"/>
            <a:ext cx="2286000" cy="3047760"/>
          </a:xfrm>
          <a:prstGeom prst="rect">
            <a:avLst/>
          </a:prstGeom>
          <a:ln w="0">
            <a:noFill/>
          </a:ln>
        </p:spPr>
      </p:pic>
      <p:sp>
        <p:nvSpPr>
          <p:cNvPr id="66" name="AutoShape 27"/>
          <p:cNvSpPr/>
          <p:nvPr/>
        </p:nvSpPr>
        <p:spPr>
          <a:xfrm>
            <a:off x="2666880" y="1676520"/>
            <a:ext cx="3886200" cy="838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28"/>
          <p:cNvSpPr/>
          <p:nvPr/>
        </p:nvSpPr>
        <p:spPr>
          <a:xfrm>
            <a:off x="2666880" y="5105520"/>
            <a:ext cx="3886200" cy="838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9E207-B2C3-4219-9084-8FBF8E54607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wo Stage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zation Contr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3152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3300"/>
                </a:solidFill>
                <a:latin typeface="Arial"/>
              </a:rPr>
              <a:t>Process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emical indic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acteriological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3300"/>
                </a:solidFill>
                <a:latin typeface="Arial"/>
              </a:rPr>
              <a:t>Sterile products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rowth 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FA7E7-26CA-41D6-9B03-7B518E02054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rilization indic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indicateurs-chimiques"/>
          <p:cNvPicPr/>
          <p:nvPr/>
        </p:nvPicPr>
        <p:blipFill>
          <a:blip r:embed="rId1"/>
          <a:stretch/>
        </p:blipFill>
        <p:spPr>
          <a:xfrm>
            <a:off x="1905120" y="182880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indicateurs-biologiques"/>
          <p:cNvPicPr/>
          <p:nvPr/>
        </p:nvPicPr>
        <p:blipFill>
          <a:blip r:embed="rId2"/>
          <a:stretch/>
        </p:blipFill>
        <p:spPr>
          <a:xfrm>
            <a:off x="4952880" y="1676520"/>
            <a:ext cx="2514600" cy="19047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mediawebserver"/>
          <p:cNvPicPr/>
          <p:nvPr/>
        </p:nvPicPr>
        <p:blipFill>
          <a:blip r:embed="rId3"/>
          <a:stretch/>
        </p:blipFill>
        <p:spPr>
          <a:xfrm>
            <a:off x="4876920" y="4114800"/>
            <a:ext cx="1623960" cy="16765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2" descr="ds_m_01_Autoclave2"/>
          <p:cNvPicPr/>
          <p:nvPr/>
        </p:nvPicPr>
        <p:blipFill>
          <a:blip r:embed="rId4"/>
          <a:stretch/>
        </p:blipFill>
        <p:spPr>
          <a:xfrm>
            <a:off x="2666880" y="45720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" descr="autoclave%20tape%20steam"/>
          <p:cNvPicPr/>
          <p:nvPr/>
        </p:nvPicPr>
        <p:blipFill>
          <a:blip r:embed="rId5"/>
          <a:stretch/>
        </p:blipFill>
        <p:spPr>
          <a:xfrm>
            <a:off x="1066680" y="4038480"/>
            <a:ext cx="167652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E9155-B74A-47A9-856D-F7CC2135304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ty Indic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343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Chemical indicator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mperature for sterilization have been met.  Do not address time or pres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7960" y="1295280"/>
            <a:ext cx="42670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</a:rPr>
              <a:t>Biological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erature, time and pressure for sterilization have been 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8"/>
          <p:cNvSpPr/>
          <p:nvPr/>
        </p:nvSpPr>
        <p:spPr>
          <a:xfrm>
            <a:off x="1371600" y="3962520"/>
            <a:ext cx="6477120" cy="213336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NOT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Neither indicator is a guarantee of sterilization i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utoclave is overpac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Broth volumes are too l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BFAFA-98F3-41DA-A5FB-24B860EB0FA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rcRect l="0" t="0" r="0" b="40007"/>
          <a:stretch/>
        </p:blipFill>
        <p:spPr>
          <a:xfrm>
            <a:off x="304920" y="1600200"/>
            <a:ext cx="8534160" cy="41148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rilization Logb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98F90-3B92-4867-8933-76C24A632A5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crosco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4060_research_large"/>
          <p:cNvPicPr/>
          <p:nvPr/>
        </p:nvPicPr>
        <p:blipFill>
          <a:blip r:embed="rId1"/>
          <a:stretch/>
        </p:blipFill>
        <p:spPr>
          <a:xfrm>
            <a:off x="457200" y="1676520"/>
            <a:ext cx="3522600" cy="401616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4114800" y="1677960"/>
            <a:ext cx="4343400" cy="448308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Keep lens 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Have at least one oil                    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immersion lens (X1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Use spring loaded l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Keep non-immersion lens free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of o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Do not allow sample to migrate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bove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the l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00ff00"/>
                </a:solidFill>
                <a:latin typeface="Arial Narrow"/>
              </a:rPr>
              <a:t>Maintain Kohler Illumination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03:48:55Z</dcterms:created>
  <dc:creator>Robin Barteluk</dc:creator>
  <dc:description/>
  <dc:language>en-US</dc:language>
  <cp:lastModifiedBy>WHO</cp:lastModifiedBy>
  <dcterms:modified xsi:type="dcterms:W3CDTF">2009-04-02T09:02:42Z</dcterms:modified>
  <cp:revision>2</cp:revision>
  <dc:subject/>
  <dc:title>Slide 1</dc:title>
</cp:coreProperties>
</file>